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BE6D-61D9-408B-8B9C-66DF7DE97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EA1F-2918-43F2-8E1A-3A5EF38ED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997D-2858-44AB-91D2-BC92FBA97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D03E-9062-45BB-B867-7DB30B4E1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3E6C-0599-4952-B292-BA37F9447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B907-13AD-4B05-B56A-A31A9B6F9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6C66-DBEB-4B9D-8AB9-C5DFE2EF3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72A7-DA77-43AE-848F-663AE6055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83FD-3377-4406-8FD8-7A5775BC6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4DAD-E05B-4284-87F6-B7E6353E9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DF63-11A9-4E6C-890A-014F7E467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6520-0E66-4CE7-B8B8-F8607734D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3DFE-B1A7-4358-ADB2-905B02EDD4D4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lipsezone.com/eps/10minute-rcp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clipse.org/home/categories/rcp.php" TargetMode="External"/><Relationship Id="rId2" Type="http://schemas.openxmlformats.org/officeDocument/2006/relationships/hyperlink" Target="http://www.eclipsezone.com/" TargetMode="External"/><Relationship Id="rId3" Type="http://schemas.openxmlformats.org/officeDocument/2006/relationships/hyperlink" Target="http://home.mit.bme.hu/~abalogh/open2005/" TargetMode="External"/><Relationship Id="rId4" Type="http://schemas.openxmlformats.org/officeDocument/2006/relationships/hyperlink" Target="http://www.theserverside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B278-2028-471B-82E5-7553F713CB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számottevő különbség egy RCP alkalmazás és egy plugin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éhány clas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xportálni az alkalmazásun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75F-88F8-43EB-89FC-370BCE9EB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 product fil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galma szerint a termék minden ami az alkalmazással m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ovábbi függőségből származó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Launch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Bran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duct file felel ezekért. Szerkesztése egyszerű manifest editoron keresztül lehetsé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trehozása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w -&gt; Other - &gt; Plug-in Development -&gt; Product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5E00-D13C-4233-996B-3DCAEA140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2051"/>
                </a:solidFill>
                <a:latin typeface="Arial"/>
              </a:rPr>
              <a:t>Why You Should Use Eclipse RCP (In 10 Minutes)</a:t>
            </a:r>
            <a:br>
              <a:rPr sz="2400"/>
            </a:b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zone.com/eps/10minute-r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B8D5-B87A-4B4E-850F-819BE8751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Chat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3475-0877-4958-ABE9-0C9784FAFD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IND SSM Console (példa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1120" y="685800"/>
            <a:ext cx="8157960" cy="55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05DE-454B-4131-9D21-F07579BC6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További informá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.org/home/categories/rcp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clipsezon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mit.bme.hu/~abalogh/open2005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serversi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0211-D899-4291-BAA5-F8EB3FB36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8T09:19:58Z</dcterms:modified>
  <cp:revision>552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